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6A1FD-1E8C-4893-A0E0-4BB82EAE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DAC8-8A9A-4552-949F-AACB0B1F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9A7F-C609-4A5E-B84C-DCED7C5F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7CA13-14A4-49D7-93DA-F91125F5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5B5E-9D60-4C9E-A163-387E80DB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8A9D-0DEA-4399-8515-E174ADB7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5E0E-4BA7-44E4-8780-F1245559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065B-F059-4D4E-9C6C-1DA372C5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5EBA-5E0F-442D-BD74-C5F5D182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87F1-0490-4C4A-9568-AC1486A5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EC6B-A8B8-4772-9DBE-BFF7357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53DA-6357-44E2-9DD5-2A495AE7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16D7-F2DA-4392-A754-5C967323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D35D-3D90-4B88-A64E-65BA6E14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84DC-B994-454A-AEBE-DDAAE511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40B9-EA1D-4B23-BC14-5D0E5BE5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4321-2D2C-4C8B-8110-5E1AD1EE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E512-B1F1-4A54-875E-2F5A954D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FE2F5-D7FC-44D1-A4C2-A2F07AC7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107D-D263-4FB8-BF05-7824836E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D3E1-9A0E-454C-8921-EB3BB524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659F-7FB6-44BB-9D35-0EEDB595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E42C-222B-4F53-8991-5257D267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D3E2-CB12-4606-A7F8-C4349070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AEFB-EC5C-477A-8420-F608BC1A4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061C-AF37-4D54-B9F9-B98E67D88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0280" y="16506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attack can match the word with the ciphertext to discover the per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8720" y="2367000"/>
            <a:ext cx="1087200" cy="449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11360" y="2690640"/>
            <a:ext cx="4805640" cy="4083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08080" y="4033800"/>
            <a:ext cx="1155960" cy="59220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5040" y="2819520"/>
            <a:ext cx="1155600" cy="59184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F23FD-F3BF-48DC-B608-C5DA1FD268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5:16Z</dcterms:modified>
  <cp:revision>68</cp:revision>
  <dc:subject/>
  <dc:title>CAP Cryptographic Analysis Program</dc:title>
</cp:coreProperties>
</file>